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403-99FA-4CE2-BBD2-9DD7656F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824-A323-4C09-A77B-1B1F44A5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E9B-4406-47ED-A584-E3B3484C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9FA-59E8-4C00-89A5-69CAB58B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1AF-011C-4AFE-94F7-B0995A7F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737-A295-4AB7-984A-F9722A7C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3DB-6697-4714-9AAF-64A86709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B33-C529-4AD8-96F1-029D91C4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6C5-3D32-4CBD-ADFA-3BB0737A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AD8-8F57-4B7F-B56C-232FD4A1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DE4-206A-48AD-9063-45A74938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943-D984-4FE0-9B09-31944112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540E-FA38-4801-8D72-A66C73A5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7 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2 de dic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qué nacionalidad es la profes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7; use at least 2 sentences to describe each patient (one using SER and another using ES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2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8 (1-8) and WRITE if the sentence describes an ORIGIN or a COLOCA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ny packet (B or C) that you did not hand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Examen: Unida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23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0:35:23Z</dcterms:created>
  <dc:creator>Helen Zumaeta</dc:creator>
  <dc:description/>
  <dc:language>en-US</dc:language>
  <cp:lastModifiedBy>Helen Zumaeta</cp:lastModifiedBy>
  <dcterms:modified xsi:type="dcterms:W3CDTF">2012-12-12T22:45:48Z</dcterms:modified>
  <cp:revision>5</cp:revision>
  <dc:subject/>
  <dc:title>Me llamo ___________ Clase 7 IM La fecha es el 28 de abril del 2011</dc:title>
</cp:coreProperties>
</file>